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8EB-4939-42C7-8ADE-C8E0C057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954B-91FE-458D-A8A0-D4C19BC4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00E-7E55-49CA-A753-79D3E0C4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697-5C97-414D-83F7-E47B0973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3107-E288-4FA5-BD66-05C79F02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7296-4BC4-43F9-AFFF-A56FEA2B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E2AB-A880-4875-9B74-979BA5C1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96FA-629D-4D8E-9173-2713E8CE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4587-7D3A-4545-84A8-076A11A6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E1C4-B72A-4EC1-82F2-874FA7BA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4059-80E9-40CA-BF70-DBB0B0A6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6779-11A0-45FF-B02D-6857420A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9A7D-7EAA-4837-B5BC-70C3D87D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C3FF-5268-4138-9230-61BFC0F4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1FD2-5E35-46C2-AD04-A215BE27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FAB9-5B65-44E1-9FC4-BBDDBDE3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56E3-E60B-4194-8E67-941F88F8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7FDFD-A36D-40D6-B343-8FEE4160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E2F7F-7DEB-422D-AA82-AE0583AC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27F2B-0341-4F49-8BD9-FAB8EB05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FAEBA-EB7E-432E-848A-CC79ADD6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EFFA5-6FB8-4AE1-8D7A-A43E5226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FF1B-C9C7-420D-B5A2-2F630969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301C8-3BA8-442F-BD53-B07D23E5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77751-78BC-4E5C-A0D9-26BBFBEE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76213-83D9-4D9B-B2D4-1A2B2187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5AC54-5E81-4272-8055-DB2F44D5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8BD2C-A734-4044-AA09-BD3B3D10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71E83-A8CC-49B3-A1A5-1F455A3E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1274B-8698-49E6-80C7-21E576FF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ABE3-A391-4ED6-B7E0-6C05F3A4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BD2-DA94-4093-9D1E-4CFE691F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BA8-C3D4-46FB-8A13-9838B68E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AFE-F09B-4A55-A8E5-64D6C42E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9C2-3E9B-4E57-917A-E74A5DC8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714E-CAE0-47EF-80BF-9A858597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B6E8-2357-419E-A924-56D5E1556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10F0-B949-4151-865D-4FA13EE4ADE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B22F-8531-41E6-8D2B-D817DBAC420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CCLESIAS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uarter 5, Lesson 20, Part 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pters 1-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ive Us A King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United Kingd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ges 194-20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line of Ecclesias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7680" indent="-51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ldron’s 3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4 Discour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17680" indent="-51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II. Discourse 3 (6:1-8:15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1208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. Solomon defends his conclusions about God in control.  That only He can give meaning to our liv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1208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. Solomon deals effectively with the objections “How can there be a God?” resulting from the inequalities of lif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line of Ecclesias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ldron’s 4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4 Discour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V. Discourse 4 (8:16-12:14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eaeaea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gardless of intellect there will be mysteries we cannot fathom.  Take care that this does not diminish our enthusiasm for lif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eaeaea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ve life fervently, death will come, and there will be an account of our deed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eaeaea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ar the conclusion of the whole matter:  “Fear God, and keep His commandments; for this is the whole of man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asic Message of Ecclesias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uld be considered depressing without God in our liv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would agree there is a pessimistic outlook on life without Go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omon affirms the pointlessness of life and the vanity of life without Go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 does not recommend life without Go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is an alternative to the vanity of lif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asic Message of Ecclesias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cannot always count on achieving our earthly goa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ven those who obtain most of what life has to offer find it unfulfilling without Go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must consider the good blessings from God, i.e., the enjoyment of work, food, drink and you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od will “bring every work into judgment, with every hidden thing, whether good or evil” (12:14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finition of Terms used in Ecclesiast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Under the sun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entioned 34 times, referring to life here on earth as opposed to life after death (which is not the emphasis of Solomon’s writing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is the value of life on eart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y am I her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should I pursue as my primary goal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 God plan our lives here on earth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finition of Terms used in Ecclesiast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anity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entioned at least 25 times, used in different senses, meaning sorry, empty, worthless, or fleeting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member - nothing has lasting meaning apart from Go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finition of Terms used in Ecclesiast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Profit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What lasting value can I achieve, will it follow me beyond the grave?  Can I eat more meals than the poor, can I wear two set of clothes at onc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the end comes, what will I have to show for my tim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word “profit” may reach the heart of Solomon’s message more than “vanity”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finition of Terms used in Ecclesiast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6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Wisdom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Wisdom here is called vanity in contrast to Proverbs where the “young” man is admonished to seek wisdo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radictio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wisdom of Proverbs has the fear of God at its found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wisdom here is worldly and called van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finition of Terms used in Ecclesiast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he wise man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here is referred to as the well-educated, or has learned much about “life under the sun” - not the wisdom of Proverbs where the wise has learned to seek God for answer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n the well-educated man depend upon his education (knowledge) to bring him happines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finition of Terms used in Ecclesiast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he fool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roughout the Wisdom Literature, the fool is describe as one who refuses to learn from his own experien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who chooses to reject God’s way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es not listen to the rebukes of the wi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who is deaf and blind to advi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shown himself to be condemned  before God by his condu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cclesias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om the Hebrew “koheleth” one who calls the assembly or addresses the congreg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cclesiastes is the Greek word for what we call “preacher” or “teacher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o is the preacher of this book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finition of Terms used in Ecclesiast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02680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he young man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is is the one called “the simple one” in the book of Proverb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Ecclesiastes, he is simply the young man, not experienced in the ups and downs of “life under the sun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one that has not yet chosen the wrong pa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member now thy Creator in the days of thy youth…,” before it is too late  12:1-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mmary of Ecclesias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urse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ife is the greatest of van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ions come and g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un rises and se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ivers run into the sea, but the sea is not fu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ifeless features of the earth endure, while mans life is a mere mist that appears for a little time and then drifts away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Also, James 4:14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mmary of Ecclesias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urse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to be completed late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cclesias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:1 - “son of David, King of Jerusalem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:12 - “I the Preacher was King over Israel in Jerusalem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:16 - “Lo, I have gotten me wisdom above all that were before me in Jerusalem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o is this “preacher”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cclesiaste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estions of Authorship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ten at what point in the preachers life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es the language fit the tim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y would the preacher not attach his nam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o is this “preacher”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cclesias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uthor is most likely Solom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481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ten at the end of an experienced lif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d Solomon repent near the end of lif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cclesias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uthor is most likely Solom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81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1000" indent="-3510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milar events of Solomon’s life and things mentioned in Ecclesias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sdom 1:16 and 1 Kings 3:1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reatness 2:4-10 and 1 Kings 4:20-3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ccumulation of servants 2:7 and 1 Kings 9:2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uilder of many projects 2:4-6 and 1 Kings 6-7 &amp; 1 Kings 9:15-19,26-2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riter’s statements concerning sin 7:20 and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 Kings 8:46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riter set in order many Proverbs 12:9 and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 Kings 4:3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cclesias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uthor is most likely Solom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825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milar thoughts and expressions with other books of Wisdom Litera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cc.5:15 also found in Job 1:2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cc.4:5 is found in Proverbs 6:10 &amp; 24:3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y Proverbs found in Ecclesias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uthor felt more qualified than anyone else simply because “he was who he wa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657600"/>
            <a:ext cx="3657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ccles. 5:15 (KJV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s he came forth of his mother's womb, naked shall he return to go as he came, and shall take nothing of his labour, which he may carry away in his h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3657600"/>
            <a:ext cx="4343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Job 1:21 (KJV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d said, Naked came I out of my mother's womb, and naked shall I return thither: the Lord gave, and the Lord hath taken away; blessed be the name of the L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510552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ccles. 4:5 (KJV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fool foldeth his hands together, and eateth his own fle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511812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verbs 6:10 (KJV) Yet a little sleep, a little slumber, a little folding of the hands to slee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verbs 24:33 (KJV)  Yet a little sleep, a little slumber, a little folding of the hands to slee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line of Ecclesias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ldron’s 1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4  Discour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. Discourse 1 (1:2-2:6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eaeaea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hing in life on earth can be depended upon for joy and fulfillme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eaeaea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ility to enjoy life is a gift from Go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line of Ecclesias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7680" indent="-51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ldron’s 2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4  Discour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17680" indent="-51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I. Discourse 2 (3:1-5:20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1089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. God has a vast purposeful plan into which man must f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1089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. Man can understand enough of the plan to recognize God is in charge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43208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can never understand the entire plan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43208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yet enough to know he must depend on Go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5T13:21:46Z</dcterms:created>
  <dc:creator> Pine Lane Church of Christ</dc:creator>
  <dc:description/>
  <dc:language>en-US</dc:language>
  <cp:lastModifiedBy>Frank D Vines</cp:lastModifiedBy>
  <dcterms:modified xsi:type="dcterms:W3CDTF">2005-09-23T15:25:19Z</dcterms:modified>
  <cp:revision>35</cp:revision>
  <dc:subject/>
  <dc:title>Ecclesiastes   </dc:title>
</cp:coreProperties>
</file>